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B0E16-9D1E-4032-8F98-1B15D7789B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19FA7-A3CD-4DCB-8C66-865E31E6FA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87971-9F9E-448C-9D2D-76F1AF9FF1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A137-29F5-4FEC-9735-69AED31A9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D485-5B57-4337-8BE8-D5173401E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4000-F512-44A7-BC6F-0A11D20F0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8B4F-3673-48FE-A8E2-FD85FB272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0C6C-1634-4C7A-B483-1253BB893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C703-DC40-4765-9188-C59B40591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77A9-388C-4CAC-AA83-30E64250B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0803-DE5C-4D02-8710-566CDF602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1B5D-4C04-465B-8CCC-DA90ABF65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98D2-0FB1-47DB-B564-A4E9CAF7F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F751-2D54-4EA6-A695-6E5D4BF9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5FFE-A78D-49F3-9341-265ADDEC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shapesource.com/" TargetMode="External"/><Relationship Id="rId5" Type="http://schemas.openxmlformats.org/officeDocument/2006/relationships/hyperlink" Target="mailto:support@visimation.com" TargetMode="External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A1313-0963-44CF-B439-60C1E2A0D9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VisioZone Header.jpg"/>
          <p:cNvPicPr/>
          <p:nvPr/>
        </p:nvPicPr>
        <p:blipFill>
          <a:blip r:embed="rId2"/>
          <a:srcRect l="0" t="87281" r="0" b="0"/>
          <a:stretch/>
        </p:blipFill>
        <p:spPr>
          <a:xfrm>
            <a:off x="0" y="0"/>
            <a:ext cx="9144000" cy="844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ShapeSource Logo 150.jpg"/>
          <p:cNvPicPr/>
          <p:nvPr/>
        </p:nvPicPr>
        <p:blipFill>
          <a:blip r:embed="rId3"/>
          <a:stretch/>
        </p:blipFill>
        <p:spPr>
          <a:xfrm>
            <a:off x="7086600" y="6172200"/>
            <a:ext cx="1905120" cy="457200"/>
          </a:xfrm>
          <a:prstGeom prst="rect">
            <a:avLst/>
          </a:prstGeom>
          <a:ln w="0">
            <a:noFill/>
          </a:ln>
        </p:spPr>
      </p:pic>
      <p:sp>
        <p:nvSpPr>
          <p:cNvPr id="43" name="Title 1"/>
          <p:cNvSpPr/>
          <p:nvPr/>
        </p:nvSpPr>
        <p:spPr>
          <a:xfrm>
            <a:off x="77760" y="6218280"/>
            <a:ext cx="6094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genda-MediumCondensed"/>
                <a:ea typeface="Arial"/>
                <a:hlinkClick r:id="rId4"/>
              </a:rPr>
              <a:t>www.shapesource.com</a:t>
            </a:r>
            <a:r>
              <a:rPr b="0" lang="en-US" sz="14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  </a:t>
            </a:r>
            <a:r>
              <a:rPr b="0" lang="en-US" sz="1600" spc="-1" strike="noStrike" baseline="14000">
                <a:solidFill>
                  <a:srgbClr val="2f5ba9"/>
                </a:solidFill>
                <a:latin typeface="Agenda-MediumCondensed"/>
                <a:ea typeface="Arial"/>
              </a:rPr>
              <a:t>■</a:t>
            </a:r>
            <a:r>
              <a:rPr b="0" lang="en-US" sz="14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 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  <a:ea typeface="Arial"/>
              </a:rPr>
              <a:t>+1 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</a:rPr>
              <a:t>425-369-6000 </a:t>
            </a:r>
            <a:r>
              <a:rPr b="0" lang="en-US" sz="1400" spc="-1" strike="noStrike" baseline="14000">
                <a:solidFill>
                  <a:srgbClr val="2f5ba9"/>
                </a:solidFill>
                <a:latin typeface="Agenda-MediumCondensed"/>
                <a:ea typeface="Arial"/>
              </a:rPr>
              <a:t>■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</a:rPr>
              <a:t>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Agenda-MediumCondensed"/>
                <a:hlinkClick r:id="rId5"/>
              </a:rPr>
              <a:t>support@visimation.com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C:\Documents and Settings\Liz.VISIMATI-BA736C\My Documents\_MARKETING\Graphics\2010 Logo Change\ProShapes\ProShapesArt\ProShapesArt\HiRes\ProShapesArt.emf"/>
          <p:cNvPicPr/>
          <p:nvPr/>
        </p:nvPicPr>
        <p:blipFill>
          <a:blip r:embed="rId6"/>
          <a:stretch/>
        </p:blipFill>
        <p:spPr>
          <a:xfrm>
            <a:off x="914400" y="125280"/>
            <a:ext cx="2992320" cy="484200"/>
          </a:xfrm>
          <a:prstGeom prst="rect">
            <a:avLst/>
          </a:prstGeom>
          <a:ln w="0">
            <a:noFill/>
          </a:ln>
        </p:spPr>
      </p:pic>
      <p:sp>
        <p:nvSpPr>
          <p:cNvPr id="45" name="Manuf"/>
          <p:cNvSpPr/>
          <p:nvPr/>
        </p:nvSpPr>
        <p:spPr>
          <a:xfrm>
            <a:off x="3809880" y="517680"/>
            <a:ext cx="3200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95b"/>
                </a:solidFill>
                <a:latin typeface="Agenda-BoldCondensed"/>
                <a:ea typeface="Arial"/>
              </a:rPr>
              <a:t>Cisco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roduct"/>
          <p:cNvSpPr/>
          <p:nvPr/>
        </p:nvSpPr>
        <p:spPr>
          <a:xfrm>
            <a:off x="6934320" y="5770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Routers - IR 18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6854760" y="519120"/>
            <a:ext cx="2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1371600" y="31240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genda-Medium"/>
              </a:rPr>
              <a:t>Enhanced Metafile (emf) Vector 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IR1835-K9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1319040" y="2928960"/>
            <a:ext cx="650592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IRM-GNSS-AD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4118040" y="3405240"/>
            <a:ext cx="907920" cy="42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IRM-SSD-100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4118040" y="3405240"/>
            <a:ext cx="907920" cy="42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P-LTEAP18-G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3817800" y="3224160"/>
            <a:ext cx="150840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P-LTE-M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3817800" y="3224160"/>
            <a:ext cx="150840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WP-WIFI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3467160" y="3224160"/>
            <a:ext cx="220968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1"/>
          <p:cNvSpPr/>
          <p:nvPr/>
        </p:nvSpPr>
        <p:spPr>
          <a:xfrm>
            <a:off x="609480" y="1019160"/>
            <a:ext cx="7772400" cy="57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genda-Bold"/>
              </a:rPr>
              <a:t>Using These 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is PowerPoint file contains Enhanced Metafile (emf) vector images of the product line noted on the title pa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Each slide contains one Enhanced Metafile (emf) vector image, the manufacturer, name of the product line, and the product number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e title on each slide is the product number and it contains a hyperlink to the manufacturer’s product page or home page for more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o navigate to a particular product number, select the Outline view to show the titles of all sli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If you don’t have Microsoft Visio on your computer, you can ignore the vss file or Visio Stencil included in the zip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All images in this PowerPoint are created using the same relative scale so the images will fit together when assembled on a docu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PowerPoint does not have the concept of “drawing scale” so the image scale does not relate to standard scales, i.e. 1”=1’-0”, 1:10, etc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You can resize an image by dragging on the sizing handles to make it larger or small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Be sure to only resize using the corner handles to maintain the proper aspect ratio, i.e. height to wid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ese are vector images that will remain clear as the size incre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o copy an image to another slide or to a document in another application, select image and use any of several standard Windows Copy/Paste meth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genda-Medium"/>
              </a:rPr>
              <a:t>Note:</a:t>
            </a: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  if you have assigned a hyperlink to the image, the Hyperlink data will not transfer when copying an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ese Enhanced Metafile (emf) vector images can be used with any Windows based graphic software that supports .emf im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IR1821-K9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319040" y="2928960"/>
            <a:ext cx="650592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IR1821-K9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1319040" y="2928960"/>
            <a:ext cx="650592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IR1831-K9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1319040" y="2928960"/>
            <a:ext cx="650592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IR1831-K9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1319040" y="2928960"/>
            <a:ext cx="650592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IR1833-K9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1319040" y="2928960"/>
            <a:ext cx="650592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IR1833-K9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1319040" y="2928960"/>
            <a:ext cx="650592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IR1835-K9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1319040" y="2928960"/>
            <a:ext cx="650592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1T17:18:29Z</dcterms:created>
  <dc:creator>Lizl</dc:creator>
  <dc:description/>
  <dc:language>en-US</dc:language>
  <cp:lastModifiedBy>Gary Klapel</cp:lastModifiedBy>
  <dcterms:modified xsi:type="dcterms:W3CDTF">2023-12-05T18:46:17Z</dcterms:modified>
  <cp:revision>5</cp:revision>
  <dc:subject/>
  <dc:title>Slide 1</dc:title>
</cp:coreProperties>
</file>